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40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4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40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600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0200" y="800280"/>
            <a:ext cx="7232760" cy="13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692760" y="5753160"/>
            <a:ext cx="1616040" cy="1052280"/>
            <a:chOff x="6692760" y="5753160"/>
            <a:chExt cx="1616040" cy="105228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7201080" y="5753160"/>
              <a:ext cx="110772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692760" y="5867280"/>
              <a:ext cx="567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60" indent="-2556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8356680" y="0"/>
            <a:ext cx="78084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odrellbank.manchester.ac.uk/astronomy/" TargetMode="External"/><Relationship Id="rId2" Type="http://schemas.openxmlformats.org/officeDocument/2006/relationships/hyperlink" Target="http://www.jodrellbank.manchester.ac.uk/astronomy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sa.int/" TargetMode="External"/><Relationship Id="rId2" Type="http://schemas.openxmlformats.org/officeDocument/2006/relationships/hyperlink" Target="http://www.esa.int/esaCP/index.html" TargetMode="External"/><Relationship Id="rId3" Type="http://schemas.openxmlformats.org/officeDocument/2006/relationships/hyperlink" Target="http://www.esa.int/esaCP/index.html" TargetMode="External"/><Relationship Id="rId4" Type="http://schemas.openxmlformats.org/officeDocument/2006/relationships/hyperlink" Target="http://www.esa.int/esaCP/index.html" TargetMode="External"/><Relationship Id="rId5" Type="http://schemas.openxmlformats.org/officeDocument/2006/relationships/hyperlink" Target="http://www.nasa.gov/missions/" TargetMode="External"/><Relationship Id="rId6" Type="http://schemas.openxmlformats.org/officeDocument/2006/relationships/hyperlink" Target="http://www.nasa.gov/home/index.html" TargetMode="External"/><Relationship Id="rId7" Type="http://schemas.openxmlformats.org/officeDocument/2006/relationships/hyperlink" Target="http://www.nasa.gov/home/index.html" TargetMode="External"/><Relationship Id="rId8" Type="http://schemas.openxmlformats.org/officeDocument/2006/relationships/hyperlink" Target="http://science.nasa.gov/realtime/jtrack/3d/JTrack3D.html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Astronom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982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I dipped into the future, far as human eye could se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w the vision of the world and all the wonder that would b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Alfred Lord Tennyson, ‘Locksley Hal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013360"/>
            <a:ext cx="73040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ek shall inherit the Earth. The rest of us will travel to the star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232760" cy="900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We’re all light and star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pic>
        <p:nvPicPr>
          <p:cNvPr id="64" name="Rectangl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69780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The world where you liv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2440" y="1968120"/>
            <a:ext cx="6984720" cy="412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3352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your group, prepare an explana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get day and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Eratosthenes measured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arent motion of stars and 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sonal variation of temperature and length of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 you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Misconceptions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ets cannot be seen with the naked ey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asons result from the distance between Earth and Sun changing through a year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avity increases with heigh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ople in different parts of the world see different phases of the Moon on the same da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b400"/>
                </a:solidFill>
                <a:latin typeface="Arial"/>
              </a:rPr>
              <a:t>The history of astronomy is a history of receding horizons”</a:t>
            </a:r>
            <a:endParaRPr b="1" lang="en-US" sz="36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2133720"/>
            <a:ext cx="6984720" cy="35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3352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a poster to highlight and (as far as you can) explain the important developments in astronomy. Your poster will form part of a timeline of astr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C yea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D –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atime years”; 15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0-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0-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9000"/>
              </a:lnSpc>
              <a:spcBef>
                <a:spcPts val="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0-present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4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b400"/>
                </a:solidFill>
                <a:latin typeface="Arial"/>
              </a:rPr>
              <a:t>Any sufficiently advanced technology is indistinguishable from magic”</a:t>
            </a:r>
            <a:endParaRPr b="1" lang="en-US" sz="28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some electronic resources for teaching astronomy. Find one thing that you didn’t know before that you think is brilli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to shar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b400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ffb400"/>
                </a:solidFill>
                <a:latin typeface="Arial"/>
              </a:rPr>
              <a:t>And if you still can’t see the light, God’s gonna buy you a satellite”</a:t>
            </a:r>
            <a:endParaRPr b="1" lang="en-US" sz="32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explain how a satellite or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 experiment: cannons o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lnSpc>
                <a:spcPct val="79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0" y="3357720"/>
            <a:ext cx="4362480" cy="32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Gravity wells and the wall of death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pic>
        <p:nvPicPr>
          <p:cNvPr id="57" name="Rectangle 5" descr=""/>
          <p:cNvPicPr/>
          <p:nvPr/>
        </p:nvPicPr>
        <p:blipFill>
          <a:blip r:embed="rId1"/>
          <a:stretch/>
        </p:blipFill>
        <p:spPr>
          <a:xfrm>
            <a:off x="622440" y="2205000"/>
            <a:ext cx="6686280" cy="39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23276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Teaching aids on the Web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1699920"/>
            <a:ext cx="75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drell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ank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The Night Sky this Month’, ‘Astronomical A-list’, ‘Earth and bey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5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tional Space Station trac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SA 3-D satellites tracker &amp; NASA vide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F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eing Scien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S3 &amp; 4 lessons abou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llarium (free open source planetar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5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relevant links from Practic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7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285840" y="62866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SP Physics sli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3276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5560" indent="0">
              <a:lnSpc>
                <a:spcPct val="108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b400"/>
                </a:solidFill>
                <a:latin typeface="Arial"/>
              </a:rPr>
              <a:t>Space exploration today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280" y="162864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pai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 out about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satellite or planetary space prob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launch, mission purpose, communications, milest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to repor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uropean Space Agenc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oSat mission, GOCE satellite, Columbus laboratory, Venus Express, Mars Express, SOHO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a.int/esaCP/index.html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AS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ROSS mission, Cassini-Huygens mission, Chandra X-ray Observatory, Dawn, Deep Impact, ACE mi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nasa.gov/home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the online satellite tracking software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cience.nasa.gov/realtime/jtrack/3d/JTrack3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7:25:23Z</dcterms:created>
  <dc:creator>Neil.Adams</dc:creator>
  <dc:description/>
  <dc:language>en-US</dc:language>
  <cp:lastModifiedBy>Neil.Adams</cp:lastModifiedBy>
  <dcterms:modified xsi:type="dcterms:W3CDTF">2010-10-19T08:25:36Z</dcterms:modified>
  <cp:revision>1</cp:revision>
  <dc:subject/>
  <dc:title>Astronomy</dc:title>
</cp:coreProperties>
</file>